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D529-CC1B-4447-AB6A-347797865FB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35F5-DF4C-402A-8104-AE7A421D76E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3987-0611-423D-97E7-88C192E66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B468-478C-458D-AF23-94F6271F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3EE3-11B8-4504-8B0C-D8B0753B1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1062-0C1E-412D-A28C-616AAE45E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7887-8A87-4A91-8C06-BD5FD3F9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ED60-D6DD-43FF-8204-EAE7E971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A662-1C12-464E-99AF-C4E848D6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88DD-3634-4575-B4D7-80CBE52C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BDE6-5112-4638-A353-884AB9D5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8675-5343-4896-8DB5-73F49AA4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DE71-F73F-4BAE-90AF-BD3BC157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4EEE-EC26-4935-8D38-153BD804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3BA5-4251-43B5-8FF2-9AAB043874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50560" y="17856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性别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龄：</a:t>
            </a:r>
            <a:r>
              <a:rPr b="1" lang="en-US" sz="1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国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毕业院校及学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工作机构及职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主要工作经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14200" y="2858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名</a:t>
            </a:r>
            <a:r>
              <a:rPr b="1" lang="en-US" sz="3700" spc="-1" strike="noStrike">
                <a:solidFill>
                  <a:srgbClr val="0070c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姓（中文姓名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24000" y="3141720"/>
          <a:ext cx="8377200" cy="2278080"/>
        </p:xfrm>
        <a:graphic>
          <a:graphicData uri="http://schemas.openxmlformats.org/drawingml/2006/table">
            <a:tbl>
              <a:tblPr/>
              <a:tblGrid>
                <a:gridCol w="2687400"/>
                <a:gridCol w="768600"/>
                <a:gridCol w="457200"/>
                <a:gridCol w="766440"/>
                <a:gridCol w="648000"/>
                <a:gridCol w="144360"/>
                <a:gridCol w="290520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职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51" name="TextBox 6"/>
          <p:cNvSpPr/>
          <p:nvPr/>
        </p:nvSpPr>
        <p:spPr>
          <a:xfrm>
            <a:off x="7000920" y="714240"/>
            <a:ext cx="15001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428760" y="214200"/>
            <a:ext cx="55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附件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5-4   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评审演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4"/>
          <p:cNvSpPr/>
          <p:nvPr/>
        </p:nvSpPr>
        <p:spPr>
          <a:xfrm>
            <a:off x="539640" y="1197000"/>
            <a:ext cx="7272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用人单位及拟任职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专项特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4"/>
          <p:cNvSpPr/>
          <p:nvPr/>
        </p:nvSpPr>
        <p:spPr>
          <a:xfrm>
            <a:off x="539640" y="155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用人单位评价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920520" y="549360"/>
            <a:ext cx="1308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单位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4"/>
          <p:cNvSpPr/>
          <p:nvPr/>
        </p:nvSpPr>
        <p:spPr>
          <a:xfrm>
            <a:off x="539640" y="170028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评审专家评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39640" y="549360"/>
            <a:ext cx="216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专家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50505w1</cp:lastModifiedBy>
  <dcterms:modified xsi:type="dcterms:W3CDTF">2014-08-12T02:19:25Z</dcterms:modified>
  <cp:revision>22</cp:revision>
  <dc:subject/>
  <dc:title>PowerPoint 演示文稿</dc:title>
</cp:coreProperties>
</file>