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CBE6-4351-484A-A840-A703F4A4128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D0CF-F40F-4158-8EBF-F2579955C88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4BA-1C61-465A-B42B-55114908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674-1FEE-4026-84AD-A02B8FF3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BC7C-463C-4A46-B35E-B925B172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3E9-C2DC-4D1A-8D89-C6E757F7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C89-8310-4E73-89B5-31A3D0A3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21C-E539-4EF3-8860-CF1F570D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68F-E4C2-49E8-A3D1-75A60469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95B-FB1D-4644-B7DF-14B46819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EFB-4C31-41F7-8C43-40F71FFA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F55-24D9-4511-A11B-F4B4CAB6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228-F691-44C2-B8B0-D54F35EB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6E4-AFE2-42C8-B2A0-B7F47C29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1B37-C476-4ACB-BFF3-23256E7D9D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400"/>
                <a:gridCol w="768600"/>
                <a:gridCol w="457200"/>
                <a:gridCol w="766440"/>
                <a:gridCol w="64800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5-4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用人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用人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0505w1</cp:lastModifiedBy>
  <dcterms:modified xsi:type="dcterms:W3CDTF">2014-08-12T02:19:25Z</dcterms:modified>
  <cp:revision>22</cp:revision>
  <dc:subject/>
  <dc:title>PowerPoint 演示文稿</dc:title>
</cp:coreProperties>
</file>